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ct" ContentType="image/x-pict"/>
  <Override PartName="/ppt/media/image7.wmf" ContentType="image/x-wmf"/>
  <Override PartName="/ppt/media/image8.png" ContentType="image/png"/>
  <Override PartName="/ppt/media/image6.wmf" ContentType="image/x-wmf"/>
  <Override PartName="/ppt/media/image11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204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080" y="-360"/>
            <a:ext cx="300348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74280"/>
            <a:ext cx="4632480" cy="34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080" y="8778960"/>
            <a:ext cx="300348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lstStyle>
            <a:lvl1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  <a:defRPr b="0" lang="es-ES_tradn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fld id="{64575873-41AB-4684-BA33-996634893EA1}" type="slidenum"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71440" y="67464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Header Placeholder 3"/>
          <p:cNvSpPr/>
          <p:nvPr/>
        </p:nvSpPr>
        <p:spPr>
          <a:xfrm>
            <a:off x="0" y="0"/>
            <a:ext cx="3002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t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b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6BB-06B8-4C62-B081-B2CEFBE8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5C6-03BF-4C88-A3CC-3899DB78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6BD-C6D6-4BF6-A202-8F82A48B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97B-FDD8-4143-89DB-4A2A351E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F0F-2B84-4369-ABC5-8F11D7D5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9533-7F76-403E-BA8A-4D18A7C5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8E4-B38E-4D6C-84E1-98EC8451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060-4977-4BB2-A383-37DC50AC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66B-87DA-4464-B2AA-C46C11FF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3B1-FA84-4BB5-946F-05FA45BD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921-669B-4F2F-8A7F-D0308401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798-15E7-40D4-84C0-836A43CC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1B84-32B1-4A1A-98C2-C386542D0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UI: 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177840" y="195120"/>
          <a:ext cx="8825040" cy="68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95120"/>
                    <a:ext cx="8825040" cy="68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50920" y="29952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gir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anes=x*math.pi/1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ngulo +=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 y reubicar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vanz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nuevas coorden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f = self.h + int(x*math.cos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f = self.v - int(x*math.sin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v.create_line(self.h,self.v,hf,v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ubicación de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h=h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=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567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gono regular de N lados de tamaño L (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L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y N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01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2038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11280" y="549360"/>
          <a:ext cx="7846920" cy="5935680"/>
        </p:xfrm>
        <a:graphic>
          <a:graphicData uri="http://schemas.openxmlformats.org/drawingml/2006/table">
            <a:tbl>
              <a:tblPr/>
              <a:tblGrid>
                <a:gridCol w="1512720"/>
                <a:gridCol w="1656000"/>
                <a:gridCol w="1512720"/>
                <a:gridCol w="1584360"/>
                <a:gridCol w="158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tuga 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395280" y="476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Existe clase predefinida en Ph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urtle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urt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forward(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293760" y="160200"/>
          <a:ext cx="7881840" cy="663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60200"/>
                    <a:ext cx="7881840" cy="66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Rectángulo"/>
          <p:cNvSpPr/>
          <p:nvPr/>
        </p:nvSpPr>
        <p:spPr>
          <a:xfrm>
            <a:off x="250920" y="2602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, W, H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;self.W=W; self.H =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width=W,height=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#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ibujar 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0,H-1,W,H-1) #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W/2,0,W/2,H) #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; v0=0 #coordenadas comienzo primera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terar con x=-100,-90,…,-10,0,10,…,90,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-10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100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x*x #valor de la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int(W*(x+100)/200 + 0.5) #coord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H - int(H*y/10000 + 0.5) #coord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h0,v0,h,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 #actualizar coordenadas comienzo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399960" y="417600"/>
          <a:ext cx="8487000" cy="71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7600"/>
                    <a:ext cx="8487000" cy="71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50920" y="189720"/>
            <a:ext cx="8893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seno con 20 ptos entre 0 y 2*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ventana,width=200,height=1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math.sin,20,0,2*math.pi,cv,2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ficar x*x con 20 ptos entre -100 y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adr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 return x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ficar(cuadrado,20,-100,100,cv,200,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Rectángulo"/>
          <p:cNvSpPr/>
          <p:nvPr/>
        </p:nvSpPr>
        <p:spPr>
          <a:xfrm>
            <a:off x="324000" y="260280"/>
            <a:ext cx="871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graficar f usando n puntos de [a,b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en canvas cv de WxH pix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aficar(f,n,a,b,cv,W,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terminar minimo y maximo de f en [a,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=(b-a)/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=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min(y,min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max(y,max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52280" y="152280"/>
            <a:ext cx="86108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ibujaVenta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uardo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aca agregamos los componentes a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aca agregamos los metodos que manejan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aneja_click(sel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aneja_bind(self, x): # x representa al “even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el programa principal (puede ser en otro arch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Tk(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reamos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objeto que agrega los componentes a l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faz = DibujaVentana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mostramos la ventana y esperamos los even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que son manejados por el objeto interf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Rectángulo"/>
          <p:cNvSpPr/>
          <p:nvPr/>
        </p:nvSpPr>
        <p:spPr>
          <a:xfrm>
            <a:off x="17928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0=H-coordenadaPixel(f(a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=coordenadaPixel(x,a,b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H-coordenadaPixel(f(x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x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vertir x en [y,z] a coord [0,w] de pixel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oordenadaPixel(x,y,z,w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nt(w*(x-y)/(z-y)+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539640" y="147600"/>
          <a:ext cx="7564680" cy="67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7600"/>
                    <a:ext cx="756468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344520" y="436680"/>
          <a:ext cx="8188200" cy="59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436680"/>
                    <a:ext cx="8188200" cy="59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Rectángulo"/>
          <p:cNvSpPr/>
          <p:nvPr/>
        </p:nvSpPr>
        <p:spPr>
          <a:xfrm>
            <a:off x="0" y="2852640"/>
            <a:ext cx="990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rectangle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rectangle(100,100,180,16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="bla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20192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2019600" cy="2276280"/>
          </a:xfrm>
          <a:prstGeom prst="rect">
            <a:avLst/>
          </a:prstGeom>
          <a:ln w="0">
            <a:noFill/>
          </a:ln>
        </p:spPr>
      </p:pic>
      <p:sp>
        <p:nvSpPr>
          <p:cNvPr id="56" name="2 Rectángulo"/>
          <p:cNvSpPr/>
          <p:nvPr/>
        </p:nvSpPr>
        <p:spPr>
          <a:xfrm>
            <a:off x="179280" y="2997360"/>
            <a:ext cx="84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entana =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ventana,width=2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100,100,200,2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="black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2000520" cy="2485800"/>
          </a:xfrm>
          <a:prstGeom prst="rect">
            <a:avLst/>
          </a:prstGeom>
          <a:ln w="0">
            <a:noFill/>
          </a:ln>
        </p:spPr>
      </p:pic>
      <p:sp>
        <p:nvSpPr>
          <p:cNvPr id="58" name="2 Rectángulo"/>
          <p:cNvSpPr/>
          <p:nvPr/>
        </p:nvSpPr>
        <p:spPr>
          <a:xfrm>
            <a:off x="0" y="3049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ircunferencia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Circunferenc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lto=200; self.ancho=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self.vent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="circunferencia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dibujar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self.ventana,width=self.anch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self.al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; self.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ibujar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0,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nch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random.randint(0,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lt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ndom.randint(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(self.alto,self.ancho)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oval(x-r,y-r,x+r,y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321840" y="838080"/>
            <a:ext cx="7938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ibujaMou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ventana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v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 = Canvas(ventana,width=300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=3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pack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bind("&lt;Button-1&gt;", self.st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bind("&lt;B1-Motion&gt;",self.dra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tart(self, evento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evento.x; self.v = evento.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raw(self, evento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line(self.h,self.v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vento.x, evento.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h = evento.x; self.v = evento.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96000" y="30492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os d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368280" y="417600"/>
          <a:ext cx="8204400" cy="62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417600"/>
                    <a:ext cx="820440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230040" y="141120"/>
          <a:ext cx="8523360" cy="697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41120"/>
                    <a:ext cx="8523360" cy="697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9:02:33Z</dcterms:created>
  <dc:creator>jalvarez</dc:creator>
  <dc:description/>
  <dc:language>en-US</dc:language>
  <cp:lastModifiedBy>Victor Ramiro</cp:lastModifiedBy>
  <cp:lastPrinted>2006-04-21T23:26:38Z</cp:lastPrinted>
  <dcterms:modified xsi:type="dcterms:W3CDTF">2011-04-20T20:58:18Z</dcterms:modified>
  <cp:revision>133</cp:revision>
  <dc:subject/>
  <dc:title>Sin título de diapositiva</dc:title>
</cp:coreProperties>
</file>